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wmf" ContentType="image/x-wmf"/>
  <Override PartName="/ppt/media/image2.wmf" ContentType="image/x-wmf"/>
  <Override PartName="/ppt/media/image7.jpeg" ContentType="image/jpeg"/>
  <Override PartName="/ppt/media/image2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1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5" name="PlaceHolder 5"/>
          <p:cNvSpPr>
            <a:spLocks noGrp="1"/>
          </p:cNvSpPr>
          <p:nvPr>
            <p:ph type="ftr" idx="1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7BD9-0CE6-4122-B65E-A60B5E748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D86D-3E70-4E0D-A1A6-6E2A7E928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2D9C-58C6-4987-B710-671DDB151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ie chart</a:t>
            </a:r>
            <a:r>
              <a:rPr b="0" lang="en-US" sz="1200" spc="-1" strike="noStrike">
                <a:solidFill>
                  <a:srgbClr val="000000"/>
                </a:solidFill>
                <a:latin typeface="Arial"/>
              </a:rPr>
              <a:t> is a diagram that shows the relationships among parts of a single unit. Ideally, pie charts have two to five “slices,” or wedges—more than eight wedges clutter a pie char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 chart shows the percentage of total calories that should come from the various components of foo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D6A2-9F42-4469-86A9-E128C811E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graph</a:t>
            </a:r>
            <a:r>
              <a:rPr b="0" lang="en-US" sz="1200" spc="-1" strike="noStrike">
                <a:solidFill>
                  <a:srgbClr val="000000"/>
                </a:solidFill>
                <a:latin typeface="Arial"/>
              </a:rPr>
              <a:t> is a diagram that presents numerical comparisons. A </a:t>
            </a:r>
            <a:r>
              <a:rPr b="0" i="1" lang="en-US" sz="1200" spc="-1" strike="noStrike">
                <a:solidFill>
                  <a:srgbClr val="000000"/>
                </a:solidFill>
                <a:latin typeface="Arial"/>
              </a:rPr>
              <a:t>bar graph i</a:t>
            </a:r>
            <a:r>
              <a:rPr b="0" lang="en-US" sz="1200" spc="-1" strike="noStrike">
                <a:solidFill>
                  <a:srgbClr val="000000"/>
                </a:solidFill>
                <a:latin typeface="Arial"/>
              </a:rPr>
              <a:t>s a diagram that uses vertical or horizontal bars to show relationships between two or more variabl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illustrates a bar graph that compares the amounts of caffeine found in one serving each of chocolate, coffee, tea, and col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07A8-12A1-4548-A080-8831F8F26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line</a:t>
            </a:r>
            <a:r>
              <a:rPr b="0" lang="en-US" sz="1200" spc="-1" strike="noStrike">
                <a:solidFill>
                  <a:srgbClr val="000000"/>
                </a:solidFill>
                <a:latin typeface="Arial"/>
              </a:rPr>
              <a:t> </a:t>
            </a:r>
            <a:r>
              <a:rPr b="0" i="1" lang="en-US" sz="1200" spc="-1" strike="noStrike">
                <a:solidFill>
                  <a:srgbClr val="000000"/>
                </a:solidFill>
                <a:latin typeface="Arial"/>
              </a:rPr>
              <a:t>graph</a:t>
            </a:r>
            <a:r>
              <a:rPr b="0" lang="en-US" sz="1200" spc="-1" strike="noStrike">
                <a:solidFill>
                  <a:srgbClr val="000000"/>
                </a:solidFill>
                <a:latin typeface="Arial"/>
              </a:rPr>
              <a:t> is a diagram that indicates changes in one or more variable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udio aids can be presented “live” (for example, playing a trumpet, strumming a guitar). You can also use recorded excerpts from various sources, which may convey information better than your describing the material or reading it as a quotation. </a:t>
            </a:r>
            <a:endParaRPr b="0" lang="en-US" sz="1200" spc="-1" strike="noStrike">
              <a:solidFill>
                <a:srgbClr val="000000"/>
              </a:solidFill>
              <a:latin typeface="Arial"/>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6ED6-9664-44C3-BF0A-659629C18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udiovisual aids such as short clips from films and videos to demonstrate concepts or processes and to expose audiences to important people. They are relatively easy to access on Internet sites such as YouTub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aids can also be used to effectively enhance your speech. For example, a speech about perfume might benefit from allowing listeners to smell scented swatches as you describe the scent.</a:t>
            </a:r>
            <a:endParaRPr b="0" lang="en-US" sz="1200" spc="-1" strike="noStrike">
              <a:solidFill>
                <a:srgbClr val="000000"/>
              </a:solidFill>
              <a:latin typeface="Arial"/>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CCCA-06FC-4CE9-86BD-303A8D644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you decide what content you want to highlight with presentational aids and which aids would best help you meet your goals.</a:t>
            </a:r>
            <a:endParaRPr b="0" lang="en-US" sz="1200" spc="-1" strike="noStrike">
              <a:solidFill>
                <a:srgbClr val="000000"/>
              </a:solidFill>
              <a:latin typeface="Arial"/>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A8F7-D27E-4493-ABFD-CD39D7D03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you decide what content you want to highlight with presentational aids and which aids would best help you meet your goals.</a:t>
            </a:r>
            <a:endParaRPr b="0" lang="en-US" sz="1200" spc="-1" strike="noStrike">
              <a:solidFill>
                <a:srgbClr val="000000"/>
              </a:solidFill>
              <a:latin typeface="Arial"/>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83BE-5EF0-4FF4-847A-9E0D0AF73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imple you plan to make your presentational aids, remember that you still need to take the time to design and produce them carefully. Finding the data you need and preparing the actual aids will take tim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determine whether you will design your aids by hand or by using presentation software. If you are artistic, can print clearly, and work neatly, then hand-designed aids would be a good choice. If you are comfortable using software, then this method may be more efficien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method you choose, these guidelines can help you prepare effective presentation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A990-DF70-44A4-B61B-5F7769727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imple you plan to make your presentational aids, remember that you still need to take the time to design and produce them carefully. Finding the data you need and preparing the actual aids will take tim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method you choose, these guidelines can help you prepare effective presentation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6F6E-76B8-4D4C-899E-E3EDAB76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D298-F5A1-4581-A830-6801E1B17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6" name="PlaceHolder 1"/>
          <p:cNvSpPr>
            <a:spLocks noGrp="1"/>
          </p:cNvSpPr>
          <p:nvPr>
            <p:ph type="sldImg"/>
          </p:nvPr>
        </p:nvSpPr>
        <p:spPr>
          <a:xfrm>
            <a:off x="1143000" y="685800"/>
            <a:ext cx="4572000" cy="3429000"/>
          </a:xfrm>
          <a:prstGeom prst="rect">
            <a:avLst/>
          </a:prstGeom>
          <a:ln w="0">
            <a:noFill/>
          </a:ln>
        </p:spPr>
      </p:sp>
      <p:sp>
        <p:nvSpPr>
          <p:cNvPr id="2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aid in this exhibit contains a lot of important information, but notice how unpleasant it is to the eye. This visual aid ignores all the principles we’ve discussed in the chapt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F465-C50B-4143-9874-4A361F40B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A8F1-9F31-42CB-AB97-53E20B73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9" name="PlaceHolder 1"/>
          <p:cNvSpPr>
            <a:spLocks noGrp="1"/>
          </p:cNvSpPr>
          <p:nvPr>
            <p:ph type="sldImg"/>
          </p:nvPr>
        </p:nvSpPr>
        <p:spPr>
          <a:xfrm>
            <a:off x="1143000" y="685800"/>
            <a:ext cx="4572000" cy="3429000"/>
          </a:xfrm>
          <a:prstGeom prst="rect">
            <a:avLst/>
          </a:prstGeom>
          <a:ln w="0">
            <a:noFill/>
          </a:ln>
        </p:spPr>
      </p:sp>
      <p:sp>
        <p:nvSpPr>
          <p:cNvPr id="2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with the previous exhibit, the visual aid shown in this exhibit is much more effective. The focus has been sharpened by emphasizing the key words (reduce, reuse, recycle), highlighting the major details, and adding clip art for a professional touc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cided on the specific presentational aids for your speech, you will need to choose the method to display them. Methods for displaying aids vary in the type of preparation they require, the amount of specialized training needed to use them effectively, and the professionalism they convey. </a:t>
            </a:r>
            <a:endParaRPr b="0" lang="en-US" sz="1200" spc="-1" strike="noStrike">
              <a:solidFill>
                <a:srgbClr val="000000"/>
              </a:solidFill>
              <a:latin typeface="Arial"/>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8D93-3C6B-40F3-A2F1-EAC52EC80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peakers think that once they have prepared good presentational aids, they will have no trouble using them in the speech. However, many speeches with good aids have failed because the speaker neglected to </a:t>
            </a:r>
            <a:r>
              <a:rPr b="0" i="1" lang="en-US" sz="1200" spc="-1" strike="noStrike">
                <a:solidFill>
                  <a:srgbClr val="000000"/>
                </a:solidFill>
                <a:latin typeface="Arial"/>
              </a:rPr>
              <a:t>practice with them.</a:t>
            </a:r>
            <a:r>
              <a:rPr b="0" lang="en-US" sz="1200" spc="-1" strike="noStrike">
                <a:solidFill>
                  <a:srgbClr val="000000"/>
                </a:solidFill>
                <a:latin typeface="Arial"/>
              </a:rPr>
              <a:t> You will want to make sure that you practice using presentational aids in your speech rehearsal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uidelines for using presentational aids effectively in your speech are give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CB52-971F-4F25-94AE-F0068E0CA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peakers think that once they have prepared good presentational aids, they will have no trouble using them in the speech. However, many speeches with good aids have failed because the speaker neglected to </a:t>
            </a:r>
            <a:r>
              <a:rPr b="0" i="1" lang="en-US" sz="1200" spc="-1" strike="noStrike">
                <a:solidFill>
                  <a:srgbClr val="000000"/>
                </a:solidFill>
                <a:latin typeface="Arial"/>
              </a:rPr>
              <a:t>practice with them.</a:t>
            </a:r>
            <a:r>
              <a:rPr b="0" lang="en-US" sz="1200" spc="-1" strike="noStrike">
                <a:solidFill>
                  <a:srgbClr val="000000"/>
                </a:solidFill>
                <a:latin typeface="Arial"/>
              </a:rPr>
              <a:t> You will want to make sure that you practice using presentational aids in your speech rehearsal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uidelines for using presentational aids effectively in your speech are give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8763-1D0A-4D7F-9B22-150758A37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entational aid is any visual, audio, audiovisual, or other sensory material used by the speaker in a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al aids offer many benefits. They allow you to adapt to an audience’s level of knowledge by clarifying and dramatizing your verbal message. They also help audiences retain the information they hear.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presentational aids allow you to address the diverse learning styles of your audience. They can also increase the persuasive appeal of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using presentational aids may help you to feel more competent. Speakers report that, when they use presentational aids, they tend to be less anxious and have more confiden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9878-C49D-43F6-BD53-2BABB0498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143000" y="685800"/>
            <a:ext cx="4572000" cy="3429000"/>
          </a:xfrm>
          <a:prstGeom prst="rect">
            <a:avLst/>
          </a:prstGeom>
          <a:ln w="0">
            <a:noFill/>
          </a:ln>
        </p:spPr>
      </p:sp>
      <p:sp>
        <p:nvSpPr>
          <p:cNvPr id="1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tual objects</a:t>
            </a:r>
            <a:r>
              <a:rPr b="0" lang="en-US" sz="1200" spc="-1" strike="noStrike">
                <a:solidFill>
                  <a:srgbClr val="000000"/>
                </a:solidFill>
                <a:latin typeface="Arial"/>
              </a:rPr>
              <a:t> are inanimate or animate physical samples of the idea you are communicating. Using them allows audience members to see precisely what you are talking about. Inanimate objects make good visual aids if they are (1) large enough to be seen by all audience members, (2) small enough to carry to the site of the speech, (3) simple enough to understand visually, and (4) saf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model</a:t>
            </a:r>
            <a:r>
              <a:rPr b="0" lang="en-US" sz="1200" spc="-1" strike="noStrike">
                <a:solidFill>
                  <a:srgbClr val="000000"/>
                </a:solidFill>
                <a:latin typeface="Arial"/>
              </a:rPr>
              <a:t> is a three-dimensional scaled-down or scaled-up version of an actual object that may be simplified to aid understanding. In a speech on the physics of bridge construction, a scale model of a suspension bridge would be an effective visual ai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exact reproduction of material is needed, </a:t>
            </a:r>
            <a:r>
              <a:rPr b="0" i="1" lang="en-US" sz="1200" spc="-1" strike="noStrike">
                <a:solidFill>
                  <a:srgbClr val="000000"/>
                </a:solidFill>
                <a:latin typeface="Arial"/>
              </a:rPr>
              <a:t>photographs</a:t>
            </a:r>
            <a:r>
              <a:rPr b="0" lang="en-US" sz="1200" spc="-1" strike="noStrike">
                <a:solidFill>
                  <a:srgbClr val="000000"/>
                </a:solidFill>
                <a:latin typeface="Arial"/>
              </a:rPr>
              <a:t> can be excellent visual aids. When choosing photographs, be sure that the image is large enough for the audience to see and that the object of interest in the photo is clearly identified and, ideally, in the foregroun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s, maps, charts, and graphs are discussed in further detail on the following slides.</a:t>
            </a:r>
            <a:endParaRPr b="0" lang="en-US" sz="1200" spc="-1" strike="noStrike">
              <a:solidFill>
                <a:srgbClr val="000000"/>
              </a:solidFill>
              <a:latin typeface="Arial"/>
            </a:endParaRPr>
          </a:p>
        </p:txBody>
      </p:sp>
      <p:sp>
        <p:nvSpPr>
          <p:cNvPr id="1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F695-1C27-4206-9010-0D8FDC061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0FAC-EB95-4262-9C17-9208470DA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rawings and </a:t>
            </a:r>
            <a:r>
              <a:rPr b="0" i="1" lang="en-US" sz="1200" spc="-1" strike="noStrike">
                <a:solidFill>
                  <a:srgbClr val="000000"/>
                </a:solidFill>
                <a:latin typeface="Arial"/>
              </a:rPr>
              <a:t>diagrams</a:t>
            </a:r>
            <a:r>
              <a:rPr b="0" lang="en-US" sz="1200" spc="-1" strike="noStrike">
                <a:solidFill>
                  <a:srgbClr val="000000"/>
                </a:solidFill>
                <a:latin typeface="Arial"/>
              </a:rPr>
              <a:t> (a type of drawing that shows how the whole relates to its parts) are easy to prepare and can be effective because you can choose how much detail to includ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is a diagram of the human body and its pressur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D0C4-DCF5-418A-866E-5355B2796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drawings and diagrams, </a:t>
            </a:r>
            <a:r>
              <a:rPr b="0" i="1" lang="en-US" sz="1200" spc="-1" strike="noStrike">
                <a:solidFill>
                  <a:srgbClr val="000000"/>
                </a:solidFill>
                <a:latin typeface="Arial"/>
              </a:rPr>
              <a:t>maps</a:t>
            </a:r>
            <a:r>
              <a:rPr b="0" lang="en-US" sz="1200" spc="-1" strike="noStrike">
                <a:solidFill>
                  <a:srgbClr val="000000"/>
                </a:solidFill>
                <a:latin typeface="Arial"/>
              </a:rPr>
              <a:t> are relatively easy to prepare or find on the Internet. Simple maps allow you to orient audiences to landmarks (mountains, rivers, and lakes), states, cities, land routes, weather systems, and so 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map that focuses on wea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E689-625E-4DAB-9DDB-9B82F66FD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chart</a:t>
            </a:r>
            <a:r>
              <a:rPr b="0" lang="en-US" sz="1200" spc="-1" strike="noStrike">
                <a:solidFill>
                  <a:srgbClr val="000000"/>
                </a:solidFill>
                <a:latin typeface="Arial"/>
              </a:rPr>
              <a:t> is a graphic representation that distills a lot of information into an easily interpreted visual format. A </a:t>
            </a:r>
            <a:r>
              <a:rPr b="0" i="1" lang="en-US" sz="1200" spc="-1" strike="noStrike">
                <a:solidFill>
                  <a:srgbClr val="000000"/>
                </a:solidFill>
                <a:latin typeface="Arial"/>
              </a:rPr>
              <a:t>flowchart</a:t>
            </a:r>
            <a:r>
              <a:rPr b="0" lang="en-US" sz="1200" spc="-1" strike="noStrike">
                <a:solidFill>
                  <a:srgbClr val="000000"/>
                </a:solidFill>
                <a:latin typeface="Arial"/>
              </a:rPr>
              <a:t> is a type of chart that uses symbols and connecting lines to diagram a sequence of steps through a complicated proces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flowchart designed to help listeners move through the sequence of steps to assess their weigh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309B-80F7-4C82-BD8E-98F19A045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organizational chart </a:t>
            </a:r>
            <a:r>
              <a:rPr b="0" lang="en-US" sz="1200" spc="-1" strike="noStrike">
                <a:solidFill>
                  <a:srgbClr val="000000"/>
                </a:solidFill>
                <a:latin typeface="Arial"/>
              </a:rPr>
              <a:t>shows the structure of an organization in terms of rank and chain of command. The chart in this exhibit illustrates the organization of a student union bo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5846-2148-4849-B4DB-C24191F18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03F2-375D-4591-BFEA-2195A308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787A7-5F6E-42B3-A1C2-D665DC3E6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5F2EC-E908-437A-B239-5C7A86FB9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5317C-55C2-40DB-B71B-17BB071E04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B295C-7095-4034-9C38-C2ED6FF2D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2A200-484B-48AD-869D-7CAE07704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D9C3E-DBBB-4930-8B4E-12FC76AA2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AE494-A5A4-4056-8B4C-D342643CF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379D1A-CD7B-4DC2-92F8-DD03D52081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1D4966-298F-4283-BE47-D8FFE46B1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73EEC7-1FC8-4A7B-ABDF-3ACB436AB2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A4FE-4305-493C-B60F-F023B834B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309D48-FEAE-4E90-B842-5BD6D248A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80F396-3806-48D5-A942-7CD68850D0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2766A0-7F84-4BEB-B9FC-6F73DE20E5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F98366-76F1-4CC6-8A2C-26534BE21D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CEBA12-A6E7-4A2D-836A-B708985373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39C9BF-1849-47CA-AD50-C60C3DB09C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D724F-8C6A-434D-8B80-53C81E8538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DE2EB2-AFFD-4005-B396-32B1CBD716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5BEDB8-4421-4A6C-AE77-0310F8678F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F45129-AA48-4BF0-AADE-38512B4C8F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03500-5EB4-47B5-8AD0-0CCA65B41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195709-9AEB-4163-A32A-69565C2657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AE7AD0-37EE-4EB8-96B9-3388F5D963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8CA3FB-7113-4950-9D47-BD41B19B6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A8618D-F67A-4B96-AA6E-9EE81E17A3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E1A65A-5AD8-4270-B33A-143A4F2F4D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938D34-FB57-4D27-A690-7CA0C6C80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A64D97-F515-42B4-95B6-35B92305E5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818A9B-A640-454A-8258-F8E1AD69AB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32BC75-D25A-4206-9AE0-E99E5EFE34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D3C28D-4D32-47B9-954C-2F2860C67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B191A-DAB9-475A-B694-5AC7C6115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58241D-43D5-4718-B22F-8F8E4E94B9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9613D1-7FA4-4C1A-9849-022264FE76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3617FF-83EE-4566-A498-918E323172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94283D-EF61-4712-A69C-4DFABEA6A2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BFCAFF-D5EE-4971-B76F-14F65BBB2C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D52F6F-EA3D-4AC1-8810-0AC720EFF9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7AC92-0FE0-4DD9-B37C-EBAB5696E1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31D7CE-6392-4827-A2FD-0F77C39B7B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F86113-1F62-4BB9-895A-06DBB031D2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37C177-03DA-409E-AE39-2B71CD6271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3BA85-8BEC-48EA-8C9B-9A187DD3C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A5081F-1110-4AED-87F4-55D0BD38E4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3E61C7-F7AD-4522-8CAF-D8B2FE330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BC221B-E48C-4EDF-8D9D-11D1308DB2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883B7B-6E9C-4187-991E-AC26C2D115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8019AD-4209-43E8-9AE2-93533286D8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C78FC8-CEA1-4323-B338-855AD9BB37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915EC2-A014-43EE-8090-318E4A18DF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26BB76-8E3D-4712-8A58-EA7CDCC2BA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C5856F-D303-49D2-9391-F2671C1F15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6F2E7C-E174-4611-871E-08D09AE637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83C4F-319C-425A-9DEF-9DD4856A8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3BC941-9089-47AF-815C-087223E9C6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FA7A41-ED4B-4A65-A916-C1610357EE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70B311-D876-47A4-8302-7AA15398A9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4F7403-6410-4644-99B0-1F6536D838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48ADF1-ED23-407D-80F1-19C4AFC75A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C1DC86-F7E2-4C2E-A042-42E746DC2D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F026F4-4AD3-4D52-B32B-1FE49EFB25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3EEE32-0F9F-4325-8430-969C99D296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452E9E-8587-4DE2-A811-691AE84141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A3170A-2BDC-4A7C-AFE6-DBE9AE1736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9B0D9-E9A1-447C-8437-FE46C7A9B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46386D-C9DF-4D35-8B9E-573CDF8631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DE174B-3501-49F1-937E-2496D49B7B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35A0A8-28BD-4C39-9A12-12C023205B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7CD446-62EF-4426-A1C1-EAC8DF148D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02E51A-7DCB-4044-9B10-2883AD3245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B17052-A43F-4C2B-BE5C-88346B4D5D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071BD9-3B4F-4431-9C6B-6E5C8F049B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7D45C0-6F26-4A62-8D6F-1F9A2C41B15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8F6E4CE-FAC7-431C-A3B0-A1C6480826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5A9B356-BED8-4441-AF35-AAF85A42DDE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63E40-AB2C-40F0-A795-9B1E1C94C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97EBEA-083F-4106-8C14-E519C2E86E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CEBEC9-BE23-42DC-98B3-2C02554825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69A2E2-0F81-4EC0-A1CD-CE55B19493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489A19-9D36-4DBE-95BB-EFAAF636AF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B6370F-73BD-4CB1-988B-C1D5C1866E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46EB16-5DEB-47AC-81E9-A3FD5001BD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EA7F0F-D621-4F29-80FE-7FC9E7C3EC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01A5D0-0A42-4056-9BB5-ED080519D7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42C037-1540-4848-B231-4760EC1932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D73694-2585-4ADD-A5B1-3410B974243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C135F-A24A-471D-AF05-C724B7E3D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436FBB-5C74-4AE1-9C80-90255D46C66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FB37281-CCB1-4826-A2D6-DE86F1ACE11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4DE87B-00D4-4D65-B742-16B748F718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2AB33E-3E87-4059-8EF6-6589FC45B9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83A0BA-747A-4763-842E-32BF85278F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E85CBE-5B21-4C74-8B1C-7041E49B6D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A34D71-A7CA-4F8E-84F0-7073282EA5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58B1F4-D68A-4AEE-9949-0473A31E39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419954-2299-47B1-9EAB-58C32F1E20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E3F032-C04E-40FC-8371-ED763F2EF7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5E678-A5C5-47E4-86FC-F2CD719A9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901B3E-FCE7-4563-BC68-1C5EF6D10D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CA7DCC4-AA02-4CC6-AA52-EDDF4275DD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9AAE37-D013-4DF7-A550-75F343D299F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2B8DD9-45A3-4E7D-825F-D7382242597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61688C-C37D-4268-9207-F36E59DB52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4BA10F-D7EC-4DBC-86F6-9F2B1302ED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DED824-C55B-43C8-902F-7798FAA862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C00CB2-0B49-416B-907A-91258EFE3E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6CB01B-2E1D-46D6-848D-C542D4E0A97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1F13A7-03A2-4C1A-AFA1-F29204DB51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A553-2AD2-42F2-A30A-922413CD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6C79-9573-409D-9BF0-F61466B48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D90DDD-D05C-42E9-A22E-7A3AB12D4D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B53F68-58D6-4BAF-80D9-85801CA86A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4E1E93-A99E-4900-9057-60E3ECBB69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22F753-7AEA-43AB-968A-FDBD3D31C4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D4C8A7-2EBB-4D2E-92F0-86A219E8548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CAA75A5-9E96-4805-8F89-0CF87293A1A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B0C586-B210-4CD9-BBFC-27FA86CB60C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23DF4A-7C21-423C-8D20-AFFCEC07F4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F63637-44D4-419C-8A91-2A8EA86055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6DEED2B-CF51-4D95-8FB2-F5DAC1A496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864D9-BC4B-4AA5-85E8-B89A32AC4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AFFB17-2629-4E65-B58B-82F2C23A5A2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A2B703-15C2-4D3F-862B-C785D4A3EB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3DD8419-9394-4FB7-A2D9-9802A22DE7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354BAC-D10D-48DF-ABD2-C4F85AB7A5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BE729E-D520-498B-B9B6-B6FD53FA64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4EA064-BEC2-478D-8074-EE882934F44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2BC838-9EBA-4048-B290-AFCE97D60B8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4F8B990-826E-4367-839B-ADC149CEEF6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FCB5F0-6705-40FC-8087-841E147AC4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AC58BA5-B6B7-4A44-BE77-02B071847B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7CDE0-7D11-4403-B90A-F5AC48CAD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DAEC5A-AF45-43F0-92B2-69DDC6EE67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E3797F3-3D7D-47AF-8898-3E35456CF4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610155-E182-47DB-AB2A-E4CE7BCAEA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874942-AE07-4E9B-8B4D-83C9052D64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9C7FFAC-0364-4939-882E-2319AF9536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60FF6B-8D02-4F7C-9614-8267D6F0DE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6590E4-DF62-4F89-B7D3-574F699441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5506BC6-9297-4D04-B647-FAF6B460CC8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8DD6034-730B-4A93-93B7-32F43FDC380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695BB50-18B7-4954-95DD-87728C6CF89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3CDFF-515D-48F2-A583-D4689392E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CDA14A-32B9-4598-A284-0145A84DF83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DD2643-8E9E-40A0-AF90-04C4963859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74F217C-C81F-4B1D-B330-4E0CFBF8F9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ACE04E-F159-4005-9196-4633ED7C53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E42602-B440-4D1B-B6A6-2DEB73FD0A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E2CB984-83CB-44F6-A27F-A52C7C3018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9B08D8-550A-4A8B-AAA2-6FB0E05768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091EB31-B4D8-443F-99C7-A783F87AE3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A4EE20-B3F3-4CFD-9B53-6457F558C5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B551313-F161-41F3-B3B5-E4562C7C933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BD0FF-00B1-4EE1-8A0A-D3B3CE75F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D8C9EB0-5525-4EE5-A22A-AD0AF3E2E6C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2FDFE2A-DFE9-4076-A74D-4645015EB54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C2633E-E001-49B0-BF5E-9CF407D3CFA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7F84EB-68DE-49AA-BFA3-FCBB12F3E4A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A48BA0-FB0C-4503-A644-5B754715794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22AE27-ECB7-46E0-AC03-81642427BEC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923CC9-1CB7-4955-83F4-6E4FDDB8D1D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4007C2-E0CF-4F73-A2D0-23E29298BBA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0AB5D35-0C4B-4F53-A1CE-9A457FF898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B145BD-2017-425B-A8B8-1F0823844CB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B16B3-EC30-4A3E-B66C-9B4C90661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2B0A4C-7E7D-4280-B16B-4EAE84DB944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2C9EF88-5639-4E08-BEC5-DA354359B17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1C99B76-69ED-4B8B-B553-D5EA27F052A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43750B3-277F-4541-8BA2-EE7A39C74B4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04441B1-0E91-414B-AD63-C6D7891276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7532933-7963-4C97-9494-25E880F8F8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A348264-14B4-4CC6-A4B4-ED101C4B02B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874820B-B472-49F6-96C5-230368FEB00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6D45E4-970B-486E-A3D2-BE1B0EC6D4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816D41-F656-4492-88AF-72B7B87C9A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C5286-2E83-4A21-A2AB-656F900C4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9AD668B-2511-4813-A537-D6F991B38F7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F0D118-8300-4799-80B4-456229AD272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2F36ED3-7DEE-433C-8871-3534B5A49A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0EA7C4D-1F13-4CA2-BA51-71045CAC41E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82A3586-C34C-4079-B928-191B1B33FC6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E2706D9-DE2E-4F9A-8F04-2BA45B46ABC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0036AAE-176D-4A7D-B578-A1CB705F117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8A0230-C477-4920-AC88-E22641F4B36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758F332-47CA-4C68-A557-28F6F4AF070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F021F5-6203-4F44-9462-43FE5E41B3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967AF-A175-4F13-B8FF-05F2A81B9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FA3CE7-353E-4D18-B51E-6295384115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67FF04-AAF9-41C0-B423-D0C01EF358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19D923-C4B1-409D-8C34-9802BBA59E8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C6EFFE-0824-4541-BA03-CA8BFD4320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0028DC5-9A69-4D64-AB57-670F23629EB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F7B5B88-84C3-49DD-960A-C046556C108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CC3B680-E95B-4603-AB6A-64D11153AE4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774EA6E-EAF8-454C-B061-B8D2801E73A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78C43F-0FC5-494B-9690-E243D993693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855A514-6AE3-4972-9E8D-41641E44248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F1FBE-4439-4599-A901-E88016ECB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238D64-87D3-4C79-888D-35CABE42BE2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EA8584A-24AD-4E4D-A759-5EE0AD573F9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55F932B-9864-48F9-ADDC-E34F5152E4B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B07D50-7241-42F2-AFE9-3E85714EE2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4C10A19-A4DE-46FE-8AE0-26E1BB4DB8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B53C20-EE56-45B4-B771-1D3E7D886FB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76EEE54-279F-403D-908F-BF6B0A79861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15B4E9B-A92C-4F28-95DD-FABBFA5E3EE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221864F-5E2B-4C1C-B3D6-3869B6DEA2C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4FA7C67-6640-4DB2-9E43-2079B99ECD2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E7B5F-5C1E-4358-8418-B85C7C396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0005E59-72BA-4391-A773-77532BF3C9B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2C8489A-941F-4195-944A-3C15E489A7D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B789446-AEB4-41E4-9A81-242C3C15146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609AC60-1107-45AB-91FF-356AC71DBE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16292B-02FB-4DAD-BE65-FC2B892E547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C976FF4-529E-440E-B469-1F1A85BEFBA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DCDCA3-B043-4947-8D28-EDDA1883610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BC496B5-007C-44E1-A074-A99631BC895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E550677-0D5F-4833-87EC-E906F5D625B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EE4E630-9419-420C-9D82-C963B8D4AED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8A67-B542-4234-B216-6D405DB9B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D46CA-F2D7-49C4-9530-B2F5510FA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22E144E-57C6-4E09-BA3D-479521B3B51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316A849-4151-4482-829C-1B0F4EEB7E2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896FFB9-AFBB-41E4-B177-C82183D7E66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CC31A7B-F838-4090-8F4D-930FDBC5C4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9C9AFAB-0A84-47E2-9BFE-8FA54FF5640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7CB733A-FA72-43BA-9755-8280AF880CD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02C670F-D1CC-4810-A0F0-AA2CA333941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1DBA5F-16F9-458B-AD57-6E321140114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C217069-E4AA-44FC-8519-6F46FE28E1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E51C046-5A51-4433-9ECF-EC68DAFBA0C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7DC3B-995C-467D-A462-0B7892E89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A6A6D09-9840-46B8-B470-8FB13B1945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B8311ED-628B-4416-A7BE-2C16BC7004C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71CC840-D506-49AA-A0A6-97197DF0B28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E2CBF8B-2D11-470A-8FEA-A641E6EED3D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82B9645-017D-48DB-8935-3FDA8CABA16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099BF65-E09F-4832-BC2C-23C57153D1F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908B162-624A-4503-8FAD-A92EA74BCD9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263EF39-E947-4044-8689-D7EFA05709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C987D32-A638-46C7-ABD2-81DFB13DC3C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11F3F0D-0370-43D6-B3FD-CF6320B051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5FE7D-ADBC-4652-98F2-E3829F3DA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5C060FD-7CF5-4260-8D34-6A8C9182B4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3E2545-44D8-4766-83A4-5E904CA6C06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8A4C112-E6A9-4203-A74B-3CC9F7F4219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29F0573-B9D1-424B-AD8D-1525C4E9230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FC0EA07-476B-4E70-9859-B604B34F7DD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564DA49-B568-44AF-B41D-D352AB8E741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C4A5D61-9D2A-4512-812E-202E19EE463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804CAEE-C40D-429C-A8B8-5B01F595796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9431D97-46CE-4719-8701-280E85B3172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E0FD7A6-0984-4C94-9CED-717FC313012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87399-7378-4175-A1C4-126030527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DD8FCC3-F23F-4695-A648-CBBE1AE2809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A4E0BC6-06CA-4763-9651-CC403F1F7B2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CEA887C-A813-45FC-B126-27B0BCE18F1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7BE1510-5D15-4575-B5B5-3DAF103D846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3719CF-8B8D-48B7-85D9-B32A023AA36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CF66EAD-9A19-47B8-AE1C-1C123F2CCA2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55C1E16-A8F9-45DA-B22F-F6E65971503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C1A4E-5E15-4401-8BBB-C93DC7E7B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6B886-1A5D-498E-83C9-DF6C157548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744355-7336-4214-A6DC-04D82235E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C2E1C-04C4-448F-8D51-38F06176D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FA31B-1876-4227-8858-C777BA3CF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4417D5-D399-4464-B288-F7896D3D6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E0426-3322-40F1-928D-4F2B9174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E97A3-05EB-4E07-A9A7-A19165953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F1F7-71FC-436E-8072-03D9D0EB4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6060B-5D85-4014-99DB-E75342C8F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8AB3F-A532-4536-BFD8-740D5C27D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1CDAE-A4A2-477E-8876-BBEDB1FFB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40864-BAB4-4F96-9A0A-F0F44C45B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CB1AB-04DD-4E2B-A7CD-18C2A68F1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5DB77C-3C71-4D59-9EB9-589A97EEF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414645-45E4-4CF0-B02D-C12A283530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871E08-341C-4153-8918-AA4390F433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FAED-2062-4EAE-923D-46CE09F0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BFB44-CCF0-43C9-8482-DF4EE0FEE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AFE9F-16BD-49BE-A9AD-F2B3B1BEF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2112E2-B1AC-4589-9AC3-A6564FC8D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74763-2AFD-421B-A8D4-BE6715A93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64746D-E725-4032-B8B5-EB62063EC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808C6-8747-4EA1-9763-BB5AB742E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5BC7A-9774-4F4C-920F-6D7EFDC3C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BE347-ABD5-45BA-910A-ADFE4D11C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CB92E-FD00-4F49-B906-CA000AEE4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A3577-8A7E-4EFA-84C5-C605F16767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D5CD-22D6-4744-BCA6-F422AEA3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DA17B-F1FF-44A0-B40F-B8E976801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2E3DE3-1FFE-4E7F-BF9C-8B55A98DAE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C5510-0F7C-4B64-BD92-1A94DADB0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DD7C9-77FF-4B8A-9972-5944C7687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A17F7-787B-46CA-B491-91315D148F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FB4E0-9833-4FB7-9CBB-0415885CB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DE036-8B17-443B-B0E4-D18A557CC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80654-E1C5-46F9-A9F5-51AB3CA5B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5560D-370C-4163-B861-9E365B65B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B52A1-3487-4ABF-825B-2FF0E4E42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2F01-313F-40BD-BCDA-0C48C40D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572DE-5217-45A2-8B4B-C98957221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D30F43-244D-4815-ABDA-406D372995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B080B3-0051-4961-9AEF-DF5F0CE4FE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FF708-A055-4C9D-A10B-12C3AF7CA6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9956E4-9062-46D7-BF73-CF341AF06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4BBF4-DEA7-48F2-A019-9F972E630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B7E88-1E89-4FF1-A370-E7D1C6BAB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D7244-BFFD-447B-B680-9C9B99BBB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D7258-6E03-48F5-8749-91E9E7E4B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A3FE0-B135-47D7-BC10-F08DE75D2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70A5-9656-4614-93E7-5C18C165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58EA2-ECFF-41D2-A14E-9FAB40DA6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3FE95-202D-4C84-8797-D3C391EC5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2A3E5-A363-455C-92ED-561886884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30F872-BC40-488D-830D-F772B4378F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D9CBE4-13ED-4CF2-8033-001F014F72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279F37-F0E4-46B1-9202-D04FD6E0AA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81937B-5AC6-4412-B810-590F85FFE3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EC2C56-0587-4B3F-88FD-374F117F9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E50FE-5C05-4925-948E-9D1886D7B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E5156-AD79-4CC5-905D-AC277AF93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B664-2801-419F-B69C-F576C2EC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67816-4836-4585-B284-DE4962790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C0277-F189-41C6-87F4-FB60A5F9C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57C90F-91A2-48BC-B0A2-E1EE77770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E54BA-EC89-4223-9B7A-19D66D52B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89ED1-F31A-45D3-A820-ACC651C44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530A37-1112-4EA1-8B2F-918225D5F8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DEBF82-CCD9-4196-B58E-F279033D73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20C848-5BA8-4FF0-B575-1ADC9D90DB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6F21A9-6BBB-4040-8B68-28889F66BA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52FAF-CF1C-4D1D-9145-C7D458233A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A610-C8E0-4001-90DF-78BEC07DD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036A-13FB-4086-A7FB-70CD2E8FF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5C08-BCE1-43A3-9219-6E0BF8A74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FE6-98C1-4803-B3C3-3618FFF48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292E-E641-4FC1-A221-80828BEDC8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12DD-8AD4-41DF-BA79-433EE3BFB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8121-40C9-4DD7-8C58-7CC618E92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0F67-4D3E-4230-949F-6B7E2B417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0847-98C3-459A-9ECF-E1AE538E2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DC8-661D-4700-85EB-1304D2517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D294-632E-4546-924A-DD99EC16E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EA9F-E855-426B-876B-F446396DD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C1B1-1FE3-4730-8E47-2B028FC67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69A2-B689-47F4-AF1C-1CEDC58A5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8C59-DE17-4927-9F7C-A2F107B86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6BC2-2AEC-49E6-85AB-DC8A029BE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7052-14C3-4FE9-ABE1-E545698E9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8C83-DB61-48D2-9ED4-6A01595C3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F803-93E4-48EF-9D15-1DE1AE94B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6EA7-E120-4D34-BCCD-06CC02A9B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2F7C-C7DC-4334-BD32-69F1003D1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8"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91DF-85DB-4C32-A51E-9CF1E5502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8"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9"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0"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1"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2"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3"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5"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6"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AF57-E872-4F36-AE9A-58AE96484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7"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8"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9"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0"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1"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2"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2910-804C-4608-82F5-D165287A7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1FDF-04A4-4A7E-943B-68C43B034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B7B5-4C3F-4AF5-9DCF-297F9C30E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8C09-15BC-4431-8686-C383FCEB2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FAAC-A18A-4749-9C89-32EE436B2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1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21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21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0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21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21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1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Preparing Visual Aids</a:t>
            </a:r>
            <a:endParaRPr b="0" lang="en-US" sz="4800" spc="-1" strike="noStrike">
              <a:solidFill>
                <a:srgbClr val="000000"/>
              </a:solidFill>
              <a:latin typeface="Arial"/>
            </a:endParaRPr>
          </a:p>
        </p:txBody>
      </p:sp>
      <p:sp>
        <p:nvSpPr>
          <p:cNvPr id="1888"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1889" name="Rectangle 1"/>
          <p:cNvSpPr/>
          <p:nvPr/>
        </p:nvSpPr>
        <p:spPr>
          <a:xfrm>
            <a:off x="173160" y="5121360"/>
            <a:ext cx="914400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ie Chart</a:t>
            </a:r>
            <a:endParaRPr b="0" lang="en-US" sz="4000" spc="-1" strike="noStrike">
              <a:solidFill>
                <a:srgbClr val="000000"/>
              </a:solidFill>
              <a:latin typeface="Arial"/>
            </a:endParaRPr>
          </a:p>
        </p:txBody>
      </p:sp>
      <p:pic>
        <p:nvPicPr>
          <p:cNvPr id="1914" name="Picture 6" descr=""/>
          <p:cNvPicPr/>
          <p:nvPr/>
        </p:nvPicPr>
        <p:blipFill>
          <a:blip r:embed="rId2"/>
          <a:stretch/>
        </p:blipFill>
        <p:spPr>
          <a:xfrm>
            <a:off x="1538280" y="2646360"/>
            <a:ext cx="6067440" cy="38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5"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Bar Graph</a:t>
            </a:r>
            <a:endParaRPr b="0" lang="en-US" sz="4000" spc="-1" strike="noStrike">
              <a:solidFill>
                <a:srgbClr val="000000"/>
              </a:solidFill>
              <a:latin typeface="Arial"/>
            </a:endParaRPr>
          </a:p>
        </p:txBody>
      </p:sp>
      <p:pic>
        <p:nvPicPr>
          <p:cNvPr id="1917" name="Picture 6" descr=""/>
          <p:cNvPicPr/>
          <p:nvPr/>
        </p:nvPicPr>
        <p:blipFill>
          <a:blip r:embed="rId2"/>
          <a:stretch/>
        </p:blipFill>
        <p:spPr>
          <a:xfrm>
            <a:off x="1814400" y="2573280"/>
            <a:ext cx="4934160" cy="390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8"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Line Graph</a:t>
            </a:r>
            <a:endParaRPr b="0" lang="en-US" sz="4000" spc="-1" strike="noStrike">
              <a:solidFill>
                <a:srgbClr val="000000"/>
              </a:solidFill>
              <a:latin typeface="Arial"/>
            </a:endParaRPr>
          </a:p>
        </p:txBody>
      </p:sp>
      <p:pic>
        <p:nvPicPr>
          <p:cNvPr id="1920" name="Picture 6" descr=""/>
          <p:cNvPicPr/>
          <p:nvPr/>
        </p:nvPicPr>
        <p:blipFill>
          <a:blip r:embed="rId2"/>
          <a:stretch/>
        </p:blipFill>
        <p:spPr>
          <a:xfrm>
            <a:off x="2003400" y="2489040"/>
            <a:ext cx="4775400" cy="423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1"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o aids enhance a verbal message through sound. They are especially useful when it is difficult to describe a sound in words.</a:t>
            </a:r>
            <a:endParaRPr b="0" lang="en-US" sz="4400" spc="-1" strike="noStrike">
              <a:solidFill>
                <a:srgbClr val="000000"/>
              </a:solidFill>
              <a:latin typeface="Arial"/>
            </a:endParaRPr>
          </a:p>
        </p:txBody>
      </p:sp>
      <p:sp>
        <p:nvSpPr>
          <p:cNvPr id="192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udio Aids</a:t>
            </a:r>
            <a:endParaRPr b="0" lang="en-US" sz="5400" spc="-1" strike="noStrike">
              <a:solidFill>
                <a:srgbClr val="000000"/>
              </a:solidFill>
              <a:latin typeface="Arial"/>
            </a:endParaRPr>
          </a:p>
        </p:txBody>
      </p:sp>
      <p:sp>
        <p:nvSpPr>
          <p:cNvPr id="192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8-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4" name=""/>
          <p:cNvSpPr txBox="1"/>
          <p:nvPr/>
        </p:nvSpPr>
        <p:spPr>
          <a:xfrm>
            <a:off x="457200" y="1760040"/>
            <a:ext cx="8229600" cy="4526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ovisual aids enhance the verbal message through sight and soun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ory aids appeal to smell, touch, and taste.</a:t>
            </a:r>
            <a:endParaRPr b="0" lang="en-US" sz="4000" spc="-1" strike="noStrike">
              <a:solidFill>
                <a:srgbClr val="000000"/>
              </a:solidFill>
              <a:latin typeface="Arial"/>
            </a:endParaRPr>
          </a:p>
        </p:txBody>
      </p:sp>
      <p:sp>
        <p:nvSpPr>
          <p:cNvPr id="19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9-2</a:t>
            </a:r>
            <a:endParaRPr b="0" lang="en-US" sz="1600" spc="-1" strike="noStrike">
              <a:solidFill>
                <a:srgbClr val="000000"/>
              </a:solidFill>
              <a:latin typeface="Arial"/>
            </a:endParaRPr>
          </a:p>
        </p:txBody>
      </p:sp>
      <p:sp>
        <p:nvSpPr>
          <p:cNvPr id="192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diovisual Aids</a:t>
            </a:r>
            <a:br>
              <a:rPr sz="3600"/>
            </a:br>
            <a:r>
              <a:rPr b="1" lang="en-US" sz="3600" spc="-1" strike="noStrike">
                <a:solidFill>
                  <a:srgbClr val="000000"/>
                </a:solidFill>
                <a:latin typeface="Arial"/>
              </a:rPr>
              <a:t>and Sensory Ai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id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e most important ideas to understand and reme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 complex ideas that are difficult to explain verb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ppropriate for the size of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dull information and details more interesting.</a:t>
            </a:r>
            <a:endParaRPr b="0" lang="en-US" sz="2800" spc="-1" strike="noStrike">
              <a:solidFill>
                <a:srgbClr val="000000"/>
              </a:solidFill>
              <a:latin typeface="Arial"/>
            </a:endParaRPr>
          </a:p>
        </p:txBody>
      </p:sp>
      <p:sp>
        <p:nvSpPr>
          <p:cNvPr id="192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192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0"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id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eel comfortable using and transporting to the speech 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rather than overwhelm the verbal mes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time and money to prep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cultural sensitivity that will not offend members of your audience.</a:t>
            </a:r>
            <a:endParaRPr b="0" lang="en-US" sz="2800" spc="-1" strike="noStrike">
              <a:solidFill>
                <a:srgbClr val="000000"/>
              </a:solidFill>
              <a:latin typeface="Arial"/>
            </a:endParaRPr>
          </a:p>
        </p:txBody>
      </p:sp>
      <p:sp>
        <p:nvSpPr>
          <p:cNvPr id="19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3</a:t>
            </a:r>
            <a:endParaRPr b="0" lang="en-US" sz="1600" spc="-1" strike="noStrike">
              <a:solidFill>
                <a:srgbClr val="000000"/>
              </a:solidFill>
              <a:latin typeface="Arial"/>
            </a:endParaRPr>
          </a:p>
        </p:txBody>
      </p:sp>
      <p:sp>
        <p:nvSpPr>
          <p:cNvPr id="193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3" name=""/>
          <p:cNvSpPr txBox="1"/>
          <p:nvPr/>
        </p:nvSpPr>
        <p:spPr>
          <a:xfrm>
            <a:off x="457200" y="1716120"/>
            <a:ext cx="8229600" cy="4525920"/>
          </a:xfrm>
          <a:prstGeom prst="rect">
            <a:avLst/>
          </a:prstGeom>
          <a:noFill/>
          <a:ln w="0">
            <a:noFill/>
          </a:ln>
        </p:spPr>
        <p:txBody>
          <a:bodyPr anchor="t">
            <a:normAutofit/>
          </a:bodyPr>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 the reading required of the audience.</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ize presentational aids from other sources.</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 photo, print, or type size that can be seen easily and a volume and sound quality that can be heard easily by your entire audience.</a:t>
            </a:r>
            <a:endParaRPr b="0" lang="en-US" sz="3000" spc="-1" strike="noStrike">
              <a:solidFill>
                <a:srgbClr val="000000"/>
              </a:solidFill>
              <a:latin typeface="Arial"/>
            </a:endParaRPr>
          </a:p>
          <a:p>
            <a:pPr lvl="1" marL="57168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 consistent print style that is easy to read.</a:t>
            </a:r>
            <a:endParaRPr b="0" lang="en-US" sz="3000" spc="-1" strike="noStrike">
              <a:solidFill>
                <a:srgbClr val="000000"/>
              </a:solidFill>
              <a:latin typeface="Arial"/>
            </a:endParaRPr>
          </a:p>
        </p:txBody>
      </p:sp>
      <p:sp>
        <p:nvSpPr>
          <p:cNvPr id="1934"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193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6" name=""/>
          <p:cNvSpPr txBox="1"/>
          <p:nvPr/>
        </p:nvSpPr>
        <p:spPr>
          <a:xfrm>
            <a:off x="457200" y="1716120"/>
            <a:ext cx="8229600" cy="4525920"/>
          </a:xfrm>
          <a:prstGeom prst="rect">
            <a:avLst/>
          </a:prstGeom>
          <a:noFill/>
          <a:ln w="0">
            <a:noFill/>
          </a:ln>
        </p:spPr>
        <p:txBody>
          <a:bodyPr anchor="t">
            <a:normAutofit/>
          </a:bodyPr>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information is laid out in a way that is aesthetically pleasing.</a:t>
            </a:r>
            <a:endParaRPr b="0" lang="en-US" sz="3000" spc="-1" strike="noStrike">
              <a:solidFill>
                <a:srgbClr val="000000"/>
              </a:solidFill>
              <a:latin typeface="Arial"/>
            </a:endParaRPr>
          </a:p>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graphic illustrations in visuals.</a:t>
            </a:r>
            <a:endParaRPr b="0" lang="en-US" sz="3000" spc="-1" strike="noStrike">
              <a:solidFill>
                <a:srgbClr val="000000"/>
              </a:solidFill>
              <a:latin typeface="Arial"/>
            </a:endParaRPr>
          </a:p>
          <a:p>
            <a:pPr lvl="1" marL="628560" indent="-514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olor strategically.</a:t>
            </a:r>
            <a:endParaRPr b="0" lang="en-US" sz="3000" spc="-1" strike="noStrike">
              <a:solidFill>
                <a:srgbClr val="000000"/>
              </a:solidFill>
              <a:latin typeface="Arial"/>
            </a:endParaRPr>
          </a:p>
        </p:txBody>
      </p:sp>
      <p:sp>
        <p:nvSpPr>
          <p:cNvPr id="193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4</a:t>
            </a:r>
            <a:endParaRPr b="0" lang="en-US" sz="1600" spc="-1" strike="noStrike">
              <a:solidFill>
                <a:srgbClr val="000000"/>
              </a:solidFill>
              <a:latin typeface="Arial"/>
            </a:endParaRPr>
          </a:p>
        </p:txBody>
      </p:sp>
      <p:sp>
        <p:nvSpPr>
          <p:cNvPr id="193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Cluttered and Cumbersome Visual Aid</a:t>
            </a:r>
            <a:endParaRPr b="0" lang="en-US" sz="4000" spc="-1" strike="noStrike">
              <a:solidFill>
                <a:srgbClr val="000000"/>
              </a:solidFill>
              <a:latin typeface="Arial"/>
            </a:endParaRPr>
          </a:p>
        </p:txBody>
      </p:sp>
      <p:pic>
        <p:nvPicPr>
          <p:cNvPr id="1941" name="Picture 6" descr=""/>
          <p:cNvPicPr/>
          <p:nvPr/>
        </p:nvPicPr>
        <p:blipFill>
          <a:blip r:embed="rId2"/>
          <a:stretch/>
        </p:blipFill>
        <p:spPr>
          <a:xfrm>
            <a:off x="1495440" y="2475000"/>
            <a:ext cx="6066000" cy="42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891"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1</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Identify the benefits of using presentational aids in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2</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Describe different types of presentational aids.</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3</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Choose appropriate presentational aids for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4</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Prepare effective presentational aids.</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5</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Display presentational aids effectively for your speech.</a:t>
            </a:r>
            <a:endParaRPr b="0" lang="en-US" sz="2700" spc="-1" strike="noStrike">
              <a:solidFill>
                <a:srgbClr val="000000"/>
              </a:solidFill>
              <a:latin typeface="Arial"/>
            </a:endParaRPr>
          </a:p>
          <a:p>
            <a:pPr marL="62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9-6</a:t>
            </a:r>
            <a:r>
              <a:rPr b="0" lang="en-US" sz="2700" spc="-1" strike="noStrike">
                <a:solidFill>
                  <a:srgbClr val="000000"/>
                </a:solidFill>
                <a:latin typeface="Arial"/>
              </a:rPr>
              <a:t> </a:t>
            </a:r>
            <a:r>
              <a:rPr b="0" lang="en-US" sz="800" spc="-1" strike="noStrike">
                <a:solidFill>
                  <a:srgbClr val="000000"/>
                </a:solidFill>
                <a:latin typeface="Arial"/>
              </a:rPr>
              <a:t> </a:t>
            </a:r>
            <a:r>
              <a:rPr b="0" lang="en-US" sz="2700" spc="-1" strike="noStrike">
                <a:solidFill>
                  <a:srgbClr val="000000"/>
                </a:solidFill>
                <a:latin typeface="Arial"/>
              </a:rPr>
              <a:t>Plan when and how to use presentational aids during your speec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A Simple but Effective Visual Aid</a:t>
            </a:r>
            <a:endParaRPr b="0" lang="en-US" sz="4000" spc="-1" strike="noStrike">
              <a:solidFill>
                <a:srgbClr val="000000"/>
              </a:solidFill>
              <a:latin typeface="Arial"/>
            </a:endParaRPr>
          </a:p>
        </p:txBody>
      </p:sp>
      <p:pic>
        <p:nvPicPr>
          <p:cNvPr id="1944" name="Picture 6" descr=""/>
          <p:cNvPicPr/>
          <p:nvPr/>
        </p:nvPicPr>
        <p:blipFill>
          <a:blip r:embed="rId2"/>
          <a:stretch/>
        </p:blipFill>
        <p:spPr>
          <a:xfrm>
            <a:off x="1476360" y="2430360"/>
            <a:ext cx="6191280" cy="420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5"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teboards or chalkboard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ipchart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outs</a:t>
            </a:r>
            <a:endParaRPr b="0" lang="en-US" sz="4000" spc="-1" strike="noStrike">
              <a:solidFill>
                <a:srgbClr val="000000"/>
              </a:solidFill>
              <a:latin typeface="Arial"/>
            </a:endParaRPr>
          </a:p>
        </p:txBody>
      </p:sp>
      <p:sp>
        <p:nvSpPr>
          <p:cNvPr id="1946"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for Displaying Presentational Aids</a:t>
            </a:r>
            <a:endParaRPr b="0" lang="en-US" sz="3600" spc="-1" strike="noStrike">
              <a:solidFill>
                <a:srgbClr val="000000"/>
              </a:solidFill>
              <a:latin typeface="Arial"/>
            </a:endParaRPr>
          </a:p>
        </p:txBody>
      </p:sp>
      <p:sp>
        <p:nvSpPr>
          <p:cNvPr id="194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8" name=""/>
          <p:cNvSpPr txBox="1"/>
          <p:nvPr/>
        </p:nvSpPr>
        <p:spPr>
          <a:xfrm>
            <a:off x="457200" y="1731960"/>
            <a:ext cx="8229600" cy="4525920"/>
          </a:xfrm>
          <a:prstGeom prst="rect">
            <a:avLst/>
          </a:prstGeom>
          <a:noFill/>
          <a:ln w="0">
            <a:noFill/>
          </a:ln>
        </p:spPr>
        <p:txBody>
          <a:bodyPr anchor="t">
            <a:normAutofit/>
          </a:bodyPr>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carefully when to use each presentational aid and make a note of it on your formal outline and in your speaking notes.</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 presentational aids and equipment so all audience members can see and/or hear them before beginning the speech.</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or play presentational aids only when talking about them so they do not distract audience members from your message.</a:t>
            </a:r>
            <a:endParaRPr b="0" lang="en-US" sz="2800" spc="-1" strike="noStrike">
              <a:solidFill>
                <a:srgbClr val="000000"/>
              </a:solidFill>
              <a:latin typeface="Arial"/>
            </a:endParaRPr>
          </a:p>
        </p:txBody>
      </p:sp>
      <p:sp>
        <p:nvSpPr>
          <p:cNvPr id="194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 Using Presentational Aids</a:t>
            </a:r>
            <a:endParaRPr b="0" lang="en-US" sz="3600" spc="-1" strike="noStrike">
              <a:solidFill>
                <a:srgbClr val="000000"/>
              </a:solidFill>
              <a:latin typeface="Arial"/>
            </a:endParaRPr>
          </a:p>
        </p:txBody>
      </p:sp>
      <p:sp>
        <p:nvSpPr>
          <p:cNvPr id="195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1" name=""/>
          <p:cNvSpPr txBox="1"/>
          <p:nvPr/>
        </p:nvSpPr>
        <p:spPr>
          <a:xfrm>
            <a:off x="457200" y="1731960"/>
            <a:ext cx="82296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 objects and handouts around </a:t>
            </a:r>
            <a:r>
              <a:rPr b="0" i="1" lang="en-US" sz="3200" spc="-1" strike="noStrike">
                <a:solidFill>
                  <a:srgbClr val="000000"/>
                </a:solidFill>
                <a:latin typeface="Arial"/>
              </a:rPr>
              <a:t>after </a:t>
            </a:r>
            <a:r>
              <a:rPr b="0" lang="en-US" sz="3200" spc="-1" strike="noStrike">
                <a:solidFill>
                  <a:srgbClr val="000000"/>
                </a:solidFill>
                <a:latin typeface="Arial"/>
              </a:rPr>
              <a:t>rather than during the speech so they do not distract audience members from your message.</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the visual aid while showing it, and the audio or audiovisual aid just before and just after playing it.</a:t>
            </a:r>
            <a:endParaRPr b="0" lang="en-US" sz="3200" spc="-1" strike="noStrike">
              <a:solidFill>
                <a:srgbClr val="000000"/>
              </a:solidFill>
              <a:latin typeface="Arial"/>
            </a:endParaRPr>
          </a:p>
          <a:p>
            <a:pPr marL="493560" indent="-49356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ye contact with the audience while talking about the presentational aid.</a:t>
            </a:r>
            <a:endParaRPr b="0" lang="en-US" sz="3200" spc="-1" strike="noStrike">
              <a:solidFill>
                <a:srgbClr val="000000"/>
              </a:solidFill>
              <a:latin typeface="Arial"/>
            </a:endParaRPr>
          </a:p>
        </p:txBody>
      </p:sp>
      <p:sp>
        <p:nvSpPr>
          <p:cNvPr id="195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 Using Presentational Aids</a:t>
            </a:r>
            <a:endParaRPr b="0" lang="en-US" sz="3600" spc="-1" strike="noStrike">
              <a:solidFill>
                <a:srgbClr val="000000"/>
              </a:solidFill>
              <a:latin typeface="Arial"/>
            </a:endParaRPr>
          </a:p>
        </p:txBody>
      </p:sp>
      <p:sp>
        <p:nvSpPr>
          <p:cNvPr id="195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893" name=""/>
          <p:cNvSpPr txBox="1"/>
          <p:nvPr/>
        </p:nvSpPr>
        <p:spPr>
          <a:xfrm>
            <a:off x="457200" y="183204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oose, prepare, and use appropriate presentational aids.</a:t>
            </a:r>
            <a:endParaRPr b="0" lang="en-US" sz="36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presentational aids that will clarify, emphasize, or dramatize your message.</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symbol system other than (or in addition to) words in your aids.</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sure your visual aids are large enough to be seen and audio aids are loud enough to be heard.</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pare and display your presentational aids professionally.</a:t>
            </a:r>
            <a:endParaRPr b="0" lang="en-US" sz="2100" spc="-1" strike="noStrike">
              <a:solidFill>
                <a:srgbClr val="000000"/>
              </a:solidFill>
              <a:latin typeface="Arial"/>
            </a:endParaRPr>
          </a:p>
          <a:p>
            <a:pPr lvl="1" marL="914400" indent="-514440">
              <a:spcBef>
                <a:spcPts val="5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n when to use aids and integrate them during your speech.</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
          <p:cNvSpPr txBox="1"/>
          <p:nvPr/>
        </p:nvSpPr>
        <p:spPr>
          <a:xfrm>
            <a:off x="457200" y="17748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objects, models, photos, drawings and diagrams, maps, charts, graph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clips, recorded conversations, nature sound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sual aid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videos and podcast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y aids</a:t>
            </a:r>
            <a:endParaRPr b="0" lang="en-US" sz="3200" spc="-1" strike="noStrike">
              <a:solidFill>
                <a:srgbClr val="000000"/>
              </a:solidFill>
              <a:latin typeface="Arial"/>
            </a:endParaRPr>
          </a:p>
        </p:txBody>
      </p:sp>
      <p:sp>
        <p:nvSpPr>
          <p:cNvPr id="189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Presentational Aids</a:t>
            </a:r>
            <a:endParaRPr b="0" lang="en-US" sz="4000" spc="-1" strike="noStrike">
              <a:solidFill>
                <a:srgbClr val="000000"/>
              </a:solidFill>
              <a:latin typeface="Arial"/>
            </a:endParaRPr>
          </a:p>
        </p:txBody>
      </p:sp>
      <p:sp>
        <p:nvSpPr>
          <p:cNvPr id="189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ual object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wings and diagram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p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rt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phs</a:t>
            </a:r>
            <a:endParaRPr b="0" lang="en-US" sz="3600" spc="-1" strike="noStrike">
              <a:solidFill>
                <a:srgbClr val="000000"/>
              </a:solidFill>
              <a:latin typeface="Arial"/>
            </a:endParaRPr>
          </a:p>
        </p:txBody>
      </p:sp>
      <p:sp>
        <p:nvSpPr>
          <p:cNvPr id="18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9-2</a:t>
            </a:r>
            <a:endParaRPr b="0" lang="en-US" sz="1600" spc="-1" strike="noStrike">
              <a:solidFill>
                <a:srgbClr val="000000"/>
              </a:solidFill>
              <a:latin typeface="Arial"/>
            </a:endParaRPr>
          </a:p>
        </p:txBody>
      </p:sp>
      <p:sp>
        <p:nvSpPr>
          <p:cNvPr id="189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isual A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Diagram</a:t>
            </a:r>
            <a:endParaRPr b="0" lang="en-US" sz="4000" spc="-1" strike="noStrike">
              <a:solidFill>
                <a:srgbClr val="000000"/>
              </a:solidFill>
              <a:latin typeface="Arial"/>
            </a:endParaRPr>
          </a:p>
        </p:txBody>
      </p:sp>
      <p:pic>
        <p:nvPicPr>
          <p:cNvPr id="1902" name="Picture 6" descr=""/>
          <p:cNvPicPr/>
          <p:nvPr/>
        </p:nvPicPr>
        <p:blipFill>
          <a:blip r:embed="rId2"/>
          <a:stretch/>
        </p:blipFill>
        <p:spPr>
          <a:xfrm>
            <a:off x="2665440" y="2494080"/>
            <a:ext cx="3619440" cy="41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3"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Map</a:t>
            </a:r>
            <a:endParaRPr b="0" lang="en-US" sz="4000" spc="-1" strike="noStrike">
              <a:solidFill>
                <a:srgbClr val="000000"/>
              </a:solidFill>
              <a:latin typeface="Arial"/>
            </a:endParaRPr>
          </a:p>
        </p:txBody>
      </p:sp>
      <p:pic>
        <p:nvPicPr>
          <p:cNvPr id="1905" name="Picture 6" descr=""/>
          <p:cNvPicPr/>
          <p:nvPr/>
        </p:nvPicPr>
        <p:blipFill>
          <a:blip r:embed="rId2"/>
          <a:stretch/>
        </p:blipFill>
        <p:spPr>
          <a:xfrm>
            <a:off x="1500120" y="2647800"/>
            <a:ext cx="6143760" cy="39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6"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Flowchart</a:t>
            </a:r>
            <a:endParaRPr b="0" lang="en-US" sz="4000" spc="-1" strike="noStrike">
              <a:solidFill>
                <a:srgbClr val="000000"/>
              </a:solidFill>
              <a:latin typeface="Arial"/>
            </a:endParaRPr>
          </a:p>
        </p:txBody>
      </p:sp>
      <p:pic>
        <p:nvPicPr>
          <p:cNvPr id="1908" name="Picture 6" descr=""/>
          <p:cNvPicPr/>
          <p:nvPr/>
        </p:nvPicPr>
        <p:blipFill>
          <a:blip r:embed="rId2"/>
          <a:stretch/>
        </p:blipFill>
        <p:spPr>
          <a:xfrm>
            <a:off x="2114640" y="2467080"/>
            <a:ext cx="4597200" cy="418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9"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Organizational Chart</a:t>
            </a:r>
            <a:endParaRPr b="0" lang="en-US" sz="4000" spc="-1" strike="noStrike">
              <a:solidFill>
                <a:srgbClr val="000000"/>
              </a:solidFill>
              <a:latin typeface="Arial"/>
            </a:endParaRPr>
          </a:p>
        </p:txBody>
      </p:sp>
      <p:pic>
        <p:nvPicPr>
          <p:cNvPr id="1911" name="Picture 6" descr=""/>
          <p:cNvPicPr/>
          <p:nvPr/>
        </p:nvPicPr>
        <p:blipFill>
          <a:blip r:embed="rId2"/>
          <a:stretch/>
        </p:blipFill>
        <p:spPr>
          <a:xfrm>
            <a:off x="1490760" y="2584440"/>
            <a:ext cx="616248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7:00:06Z</dcterms:modified>
  <cp:revision>342</cp:revision>
  <dc:subject/>
  <dc:title>Chapter One</dc:title>
</cp:coreProperties>
</file>